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9D0F-0D28-4973-8E3E-FA975614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B773-8551-4AE2-B710-C7655178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20DC-5565-476C-B375-7DF481A6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02AB-1100-444F-AE8F-9446B056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FC75-BB9D-4B21-AE83-1989612A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F09-E9DE-4A46-805F-A20EAE3C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F6C7-84C1-4F9B-AB9F-76663816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2338-D519-43E8-A433-51DDCD57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8169-F52D-4488-AF8C-6410795B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BA70-C45A-4C2D-88B2-FE0FC891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5A6D-6095-4B2A-BF37-FE94CCFA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5C134-8556-46F4-BC62-DBFEA41A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ECAA-1E9E-4BE4-A51B-0264FB4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5DA7-46C6-4028-A064-8B77B222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5F15-F3DA-454E-9EAA-C43BF713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7779-6188-4009-BD09-49691AA1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2864-EED2-41D1-AE19-0251A9BA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EC09-23D2-4713-A955-E570DB99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4906C-987D-46E1-9CA7-21554C38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9D4D-D6E6-46CF-9335-C7535315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0C43-E2F3-4D7A-9A8E-9128B99E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071C-40EE-4710-92EA-867A871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469A-AAC4-4019-AD32-B1AF714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91AC-B3BD-4148-B75B-62DEC059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1A41-887B-4510-8573-C59A270418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66E2-3310-44C3-85CC-D2E44A1DCE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autor_img"/>
          <p:cNvPicPr/>
          <p:nvPr/>
        </p:nvPicPr>
        <p:blipFill>
          <a:blip r:embed="rId1"/>
          <a:stretch/>
        </p:blipFill>
        <p:spPr>
          <a:xfrm>
            <a:off x="1908000" y="1773360"/>
            <a:ext cx="4969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. Рождественск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Если б только люди жили вечно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это было бы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бесчеловечно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узна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его ты в жизни стоиш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почуя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то такое риск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море броситься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утоне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 костер взойти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сгори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ле распах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том успею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рох выдум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 для чего?!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слаждались бы ленивой спесью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ленники бессмертья своего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чего они бы не свершили!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когда б не вылезли из тьмы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Может, самый главный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стимул жизн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горькой истине, что смертны 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5" descr="рис2"/>
          <p:cNvPicPr/>
          <p:nvPr/>
        </p:nvPicPr>
        <p:blipFill>
          <a:blip r:embed="rId1"/>
          <a:stretch/>
        </p:blipFill>
        <p:spPr>
          <a:xfrm>
            <a:off x="981000" y="1600200"/>
            <a:ext cx="299088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дь такова Жизнь, суетная и скоропреходящая. Только жизнь заставляет страдать. Умереть не больн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реть – усну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мерть – это значит конец, по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чему же тогда мне не хочется умира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«Любовь к жизни» - это рассказ о мужественном человеке, который выстоял в таких страшных испытаниях, как одиночество, предательство друга и борьба с суровой северной природой. Самое главное - преодолел себя, свой страх, свою бо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жек Лондон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1876 – 1916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ек Лондон (настоящее имя Джон Гриффин) родился 12 января  1876 года в Сан-Франциско в семье разорившегося ферме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рис"/>
          <p:cNvPicPr/>
          <p:nvPr/>
        </p:nvPicPr>
        <p:blipFill>
          <a:blip r:embed="rId1"/>
          <a:stretch/>
        </p:blipFill>
        <p:spPr>
          <a:xfrm>
            <a:off x="250920" y="1557360"/>
            <a:ext cx="433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Золотая лихорад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896 году на Аляске были открыты залежи золо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олотая лихорадка» захватила и Джека Лонд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12" descr="рисунок"/>
          <p:cNvPicPr/>
          <p:nvPr/>
        </p:nvPicPr>
        <p:blipFill>
          <a:blip r:embed="rId1"/>
          <a:stretch/>
        </p:blipFill>
        <p:spPr>
          <a:xfrm>
            <a:off x="468360" y="2133720"/>
            <a:ext cx="4032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ы Джека Лонд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нувшись в Сан-Франциско, он полностью отдается писательскому труду. 1899 год становится переломным в судьбе Лондона: один за другим выходят его «Северные рассказы» среди них был и рассказ «Любовь к жизни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Белый клык  "/>
          <p:cNvPicPr/>
          <p:nvPr/>
        </p:nvPicPr>
        <p:blipFill>
          <a:blip r:embed="rId1"/>
          <a:stretch/>
        </p:blipFill>
        <p:spPr>
          <a:xfrm>
            <a:off x="250920" y="1341360"/>
            <a:ext cx="1904760" cy="288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Любовь к жизни"/>
          <p:cNvPicPr/>
          <p:nvPr/>
        </p:nvPicPr>
        <p:blipFill>
          <a:blip r:embed="rId2"/>
          <a:stretch/>
        </p:blipFill>
        <p:spPr>
          <a:xfrm>
            <a:off x="2195640" y="4086360"/>
            <a:ext cx="1714320" cy="27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бложка книги: Расса Кингмана «Иллюстрированная жизнь Дж. Лондона»"/>
          <p:cNvPicPr/>
          <p:nvPr/>
        </p:nvPicPr>
        <p:blipFill>
          <a:blip r:embed="rId3"/>
          <a:stretch/>
        </p:blipFill>
        <p:spPr>
          <a:xfrm>
            <a:off x="2411280" y="1052640"/>
            <a:ext cx="1905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 в Калифофорн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ом в Калифорн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ие годы своей жизни Лондон провёл на калифорнинийском ранчо. 22 ноября 1916 года Джек Лондон скончался. За неполных 20 лет литературной деятельности Джек Лондон создал свыше 200 рассказов, 20 романов и 3 пье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дом В Калифорнии"/>
          <p:cNvPicPr/>
          <p:nvPr/>
        </p:nvPicPr>
        <p:blipFill>
          <a:blip r:embed="rId1"/>
          <a:stretch/>
        </p:blipFill>
        <p:spPr>
          <a:xfrm>
            <a:off x="826920" y="1773360"/>
            <a:ext cx="345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игра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колько человек побеждает стра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только он человек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Томас Корлейль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англ. писатель и истори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Любовь к  жизн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рис1"/>
          <p:cNvPicPr/>
          <p:nvPr/>
        </p:nvPicPr>
        <p:blipFill>
          <a:blip r:embed="rId1"/>
          <a:stretch/>
        </p:blipFill>
        <p:spPr>
          <a:xfrm>
            <a:off x="2340000" y="1628640"/>
            <a:ext cx="4319640" cy="3702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Билл шёл вперёд, даже не оглядываяс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кстремальная ситуац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от.лат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tremu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« крайний») Экстремальная ситуация – ситуация, крайне напряжённая, опасная, требующая от человека наивысшего подъёма душевных и физических си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же он будет смеяться над Биллом, еслим это Билл, если эти бело-розовые кости-всё,  что осталось от Билл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9" descr="джек"/>
          <p:cNvPicPr/>
          <p:nvPr/>
        </p:nvPicPr>
        <p:blipFill>
          <a:blip r:embed="rId1"/>
          <a:stretch/>
        </p:blipFill>
        <p:spPr>
          <a:xfrm>
            <a:off x="468360" y="1628640"/>
            <a:ext cx="374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6:03:39Z</dcterms:created>
  <dc:creator>Андрей</dc:creator>
  <dc:description/>
  <dc:language>en-US</dc:language>
  <cp:lastModifiedBy>Компьютер я. Машина!</cp:lastModifiedBy>
  <dcterms:modified xsi:type="dcterms:W3CDTF">2001-12-31T19:34:38Z</dcterms:modified>
  <cp:revision>18</cp:revision>
  <dc:subject/>
  <dc:title>Джек Лондон</dc:title>
</cp:coreProperties>
</file>